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076F-C919-4B38-8E35-F07F05E3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34BF9-6D5C-4721-9527-E01A546A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8AED-04E9-4E1A-B3EB-388F1D30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4B4B9-F61D-40BC-928F-95E9C807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5C66-7F68-4A90-9E3D-7E2A9B87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5004-DB61-4629-91F8-F115B524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9934-BC61-45C8-812C-835E65D0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C3EC-99DF-45BE-9830-C1570687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3AB5-0D9A-4DD7-9175-F30BB2ED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77EB-A8A0-412E-903B-94E33B95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28A7-0299-404B-A7ED-BC3CB64B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8A14-1BFC-4B56-BF26-C8699F91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9A16-2F61-4DE2-A8A8-67622D5F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58E6-C983-47C2-92D1-523CF8A6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8D00-213F-4CB3-ABBE-20E296B1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53BD-5CF9-4438-AC78-51439A37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B17F-A11F-436A-8AEE-3C09F6DD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E99A-1F39-4352-9D1F-64496A68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8FEF4-C018-414D-A899-26784636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9C49-31A5-403A-A76E-6553907B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D015-AC71-4F8A-81B1-06AD5A57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8AFA0-9B6C-4054-B90D-F87F63F3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9DB63-3495-499C-AE9F-B0022FF8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4D378-AAAE-4DCF-862C-8C83D14C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E17B-8942-4846-9730-1C29F48AC27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987E-C7C7-45CC-8BB4-9DAAB45C64D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396360" y="350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АНТОН ПАВЛОВИЧ ЧЕХОВ</a:t>
            </a:r>
            <a:br>
              <a:rPr sz="5400"/>
            </a:b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                  (1860-1904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808440" cy="539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П. Чехов родился в 1860 году в городе Таганроге, в семье торгов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876 году отец Чехова разорился и переехал с семьей в Москву, а Антон остался. Он учился в гимназии. Писательский талант у Чехова открылся в гимназ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 лет Чехов поступил на медицинский факультет Московского университета, после его окончания получил звание вра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студенческие годы Чехов начинает писать маленькие рассказы. Эти произведения приносят ему популяр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90-е годы произведения Чехова были известны не только в России, но и в других европейских стран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ая тема рассказов, повестей, пьес Чехова, - это жизнь обыкновенных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 театрах ставятся пьесы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А.П. Чехов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Чайка» (1895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Дядя Ваня» (1896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Три сестры» (1901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Вишневый сад» (1903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Эти произведения оказали огромное влияние на развитие мировой театральной драматургии ХХ ве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есной 1904 года здоровье Чехова ухудшилось. По совету врачей он отправляется на лечение в немецкий курортный город Баденвейлер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м он скончал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А.П. Чехов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–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семирно известный писател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настоящее время имя А.П. Чехова является одним из самых популярных в мировой литературе, а пьесы великого драматурга идут на сценах всех континент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4:46:35Z</dcterms:created>
  <dc:creator>Русинов Р.</dc:creator>
  <dc:description/>
  <dc:language>en-US</dc:language>
  <cp:lastModifiedBy>Русинов Р.</cp:lastModifiedBy>
  <dcterms:modified xsi:type="dcterms:W3CDTF">2012-12-04T16:10:34Z</dcterms:modified>
  <cp:revision>3</cp:revision>
  <dc:subject/>
  <dc:title>АНТОН ПАВЛОВИЧ ЧЕХОВ (1860-1904)</dc:title>
</cp:coreProperties>
</file>